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51675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B255-8FF8-44EB-8B45-E96D976B8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C7A7-3D0C-422C-827F-46257CA6C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CEFA-592D-4229-B336-44ED5A866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DEDF-F7EA-4461-A48B-C2ACA80AB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A0F4-62AE-492A-B96C-C4FD053BB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E443-FE35-4EEB-8547-635184CC5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8933-ADAD-4D48-ABF0-38A2CDC91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CD49-D87F-4980-9D70-F652F7885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28AC-BB2E-4434-81D4-83506B2D9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407C-581C-4680-A15D-85EC0B4F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B52D-D366-4C28-B474-6BF6C228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C13C-FDD6-4B45-BD3E-B8DFBE69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35CBE-71B3-44C7-8577-DA2D3916A6CC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4" name="1 Título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Calibri"/>
              </a:rPr>
              <a:t>Gestión de Recursos Human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Calibri"/>
              </a:rPr>
              <a:t>Área Educación – CMVM 20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2 Subtítulo"/>
          <p:cNvSpPr/>
          <p:nvPr/>
        </p:nvSpPr>
        <p:spPr>
          <a:xfrm>
            <a:off x="1116000" y="38638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Calibri"/>
              </a:rPr>
              <a:t>Mercedes Valenzuel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6 CuadroTexto"/>
          <p:cNvSpPr/>
          <p:nvPr/>
        </p:nvSpPr>
        <p:spPr>
          <a:xfrm>
            <a:off x="2411280" y="587700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Calibri"/>
              </a:rPr>
              <a:t>Viña del Mar, Hotel Marina del Rey, 12  de mayo de 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" name="Group 12"/>
          <p:cNvGrpSpPr/>
          <p:nvPr/>
        </p:nvGrpSpPr>
        <p:grpSpPr>
          <a:xfrm>
            <a:off x="3854520" y="506520"/>
            <a:ext cx="1713960" cy="1453320"/>
            <a:chOff x="3854520" y="506520"/>
            <a:chExt cx="1713960" cy="1453320"/>
          </a:xfrm>
        </p:grpSpPr>
        <p:pic>
          <p:nvPicPr>
            <p:cNvPr id="48" name="Picture 13" descr="log-cmvm"/>
            <p:cNvPicPr/>
            <p:nvPr/>
          </p:nvPicPr>
          <p:blipFill>
            <a:blip r:embed="rId2"/>
            <a:stretch/>
          </p:blipFill>
          <p:spPr>
            <a:xfrm>
              <a:off x="3854520" y="506520"/>
              <a:ext cx="1713960" cy="96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14" descr="Copia de logo02"/>
            <p:cNvPicPr/>
            <p:nvPr/>
          </p:nvPicPr>
          <p:blipFill>
            <a:blip r:embed="rId3"/>
            <a:stretch/>
          </p:blipFill>
          <p:spPr>
            <a:xfrm>
              <a:off x="3854520" y="1547280"/>
              <a:ext cx="1713960" cy="412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53" name="1 Título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Calibri"/>
              </a:rPr>
              <a:t>Políticas Corporativ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2 Marcador de contenido"/>
          <p:cNvSpPr/>
          <p:nvPr/>
        </p:nvSpPr>
        <p:spPr>
          <a:xfrm>
            <a:off x="609480" y="1666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Calibri"/>
              </a:rPr>
              <a:t>Arista relevante en la organización y logros de la empres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Calibri"/>
              </a:rPr>
              <a:t>Eficienc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Calibri"/>
              </a:rPr>
              <a:t>Reducción de cost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Calibri"/>
              </a:rPr>
              <a:t>Resguardar la calidad, con 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Calibri"/>
              </a:rPr>
              <a:t>      </a:t>
            </a:r>
            <a:r>
              <a:rPr b="0" lang="es-MX" sz="2000" spc="-1" strike="noStrike">
                <a:solidFill>
                  <a:srgbClr val="ffff00"/>
                </a:solidFill>
                <a:latin typeface="Calibri"/>
              </a:rPr>
              <a:t>personal con el que se cuent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Calibri"/>
              </a:rPr>
              <a:t>Mejorar la relación entre l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Calibri"/>
              </a:rPr>
              <a:t>       </a:t>
            </a:r>
            <a:r>
              <a:rPr b="0" lang="es-MX" sz="2000" spc="-1" strike="noStrike">
                <a:solidFill>
                  <a:srgbClr val="ffff00"/>
                </a:solidFill>
                <a:latin typeface="Calibri"/>
              </a:rPr>
              <a:t>institución y el personal qu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Calibri"/>
              </a:rPr>
              <a:t>       </a:t>
            </a:r>
            <a:r>
              <a:rPr b="0" lang="es-MX" sz="2000" spc="-1" strike="noStrike">
                <a:solidFill>
                  <a:srgbClr val="ffff00"/>
                </a:solidFill>
                <a:latin typeface="Calibri"/>
              </a:rPr>
              <a:t>la compo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Calibri"/>
              </a:rPr>
              <a:t>Formación y  Capacitació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Calibri"/>
              </a:rPr>
              <a:t>       </a:t>
            </a:r>
            <a:r>
              <a:rPr b="0" lang="es-MX" sz="2000" spc="-1" strike="noStrike">
                <a:solidFill>
                  <a:srgbClr val="ffff00"/>
                </a:solidFill>
                <a:latin typeface="Calibri"/>
              </a:rPr>
              <a:t>del persona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2"/>
          <a:stretch/>
        </p:blipFill>
        <p:spPr>
          <a:xfrm>
            <a:off x="4211640" y="2349360"/>
            <a:ext cx="4861080" cy="33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-27000" y="-2844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59" name="1 Título"/>
          <p:cNvSpPr/>
          <p:nvPr/>
        </p:nvSpPr>
        <p:spPr>
          <a:xfrm>
            <a:off x="598320" y="42696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Calibri"/>
              </a:rPr>
              <a:t>Políticas Corporativ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2 Marcador de contenido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1 Título"/>
          <p:cNvSpPr/>
          <p:nvPr/>
        </p:nvSpPr>
        <p:spPr>
          <a:xfrm>
            <a:off x="179280" y="2060640"/>
            <a:ext cx="4103640" cy="1143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Calibri"/>
              </a:rPr>
              <a:t>Política de RR.H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1 Título"/>
          <p:cNvSpPr/>
          <p:nvPr/>
        </p:nvSpPr>
        <p:spPr>
          <a:xfrm>
            <a:off x="500040" y="3798720"/>
            <a:ext cx="3457440" cy="1143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Calibri"/>
              </a:rPr>
              <a:t>Proce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1 Título"/>
          <p:cNvSpPr/>
          <p:nvPr/>
        </p:nvSpPr>
        <p:spPr>
          <a:xfrm>
            <a:off x="325440" y="5526000"/>
            <a:ext cx="3886200" cy="1143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Calibri"/>
              </a:rPr>
              <a:t>Procedimien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1 Título"/>
          <p:cNvSpPr/>
          <p:nvPr/>
        </p:nvSpPr>
        <p:spPr>
          <a:xfrm>
            <a:off x="5219640" y="2276640"/>
            <a:ext cx="3745080" cy="5713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alibri"/>
              </a:rPr>
              <a:t>Trazan y guían el camino para las acciones que se realizará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1 Título"/>
          <p:cNvSpPr/>
          <p:nvPr/>
        </p:nvSpPr>
        <p:spPr>
          <a:xfrm>
            <a:off x="5506920" y="5526000"/>
            <a:ext cx="3457800" cy="1143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alibri"/>
              </a:rPr>
              <a:t>Formularios, documentos y accio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1 Título"/>
          <p:cNvSpPr/>
          <p:nvPr/>
        </p:nvSpPr>
        <p:spPr>
          <a:xfrm>
            <a:off x="5135400" y="3798720"/>
            <a:ext cx="3829320" cy="1143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alibri"/>
              </a:rPr>
              <a:t>Trabajo en equipo (CMVM + Equipos Directivos) con evidencias para la toma de decisio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7" name="2 Conector recto de flecha"/>
          <p:cNvCxnSpPr>
            <a:stCxn id="61" idx="2"/>
            <a:endCxn id="62" idx="0"/>
          </p:cNvCxnSpPr>
          <p:nvPr/>
        </p:nvCxnSpPr>
        <p:spPr>
          <a:xfrm flipH="1">
            <a:off x="2228040" y="3203280"/>
            <a:ext cx="3960" cy="59580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68" name="14 Conector recto de flecha"/>
          <p:cNvCxnSpPr/>
          <p:nvPr/>
        </p:nvCxnSpPr>
        <p:spPr>
          <a:xfrm flipH="1">
            <a:off x="2223360" y="4924440"/>
            <a:ext cx="3960" cy="5961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69" name="15 Conector recto de flecha"/>
          <p:cNvCxnSpPr/>
          <p:nvPr/>
        </p:nvCxnSpPr>
        <p:spPr>
          <a:xfrm>
            <a:off x="4282920" y="2566800"/>
            <a:ext cx="937440" cy="108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70" name="18 Conector recto de flecha"/>
          <p:cNvCxnSpPr/>
          <p:nvPr/>
        </p:nvCxnSpPr>
        <p:spPr>
          <a:xfrm>
            <a:off x="3966840" y="4404960"/>
            <a:ext cx="1168920" cy="108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71" name="20 Conector recto de flecha"/>
          <p:cNvCxnSpPr/>
          <p:nvPr/>
        </p:nvCxnSpPr>
        <p:spPr>
          <a:xfrm>
            <a:off x="4244760" y="6097320"/>
            <a:ext cx="1262520" cy="108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72" name="22 Conector recto de flecha"/>
          <p:cNvCxnSpPr/>
          <p:nvPr/>
        </p:nvCxnSpPr>
        <p:spPr>
          <a:xfrm flipH="1">
            <a:off x="7144560" y="2905200"/>
            <a:ext cx="1080" cy="89424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73" name="24 Conector recto de flecha"/>
          <p:cNvCxnSpPr/>
          <p:nvPr/>
        </p:nvCxnSpPr>
        <p:spPr>
          <a:xfrm flipH="1">
            <a:off x="7216560" y="4941720"/>
            <a:ext cx="2160" cy="5961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77" name="1 Título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2 Marcador de contenido"/>
          <p:cNvSpPr/>
          <p:nvPr/>
        </p:nvSpPr>
        <p:spPr>
          <a:xfrm>
            <a:off x="368280" y="2332080"/>
            <a:ext cx="8515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spcBef>
                <a:spcPts val="700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Calibri"/>
              </a:rPr>
              <a:t>La continuidad laboral  de  los profesionales y asistentes de la educación, que terminan contrato al 10 de julio del presente, será evaluada el 30 de juni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Calibri"/>
              </a:rPr>
              <a:t>La continuidad laboral  de  los profesionales y asistentes de la educación, que terminan contrato al 29 de febrero del 2012, será evaluada el 30 de noviembre del presente añ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Calibri"/>
              </a:rPr>
              <a:t>La continuidad laboral de las extensiones a plazo fijo que terminan contrato al 29 de febrero del 2012, será evaluada  el 30 de noviembre del presente añ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1 Título"/>
          <p:cNvSpPr/>
          <p:nvPr/>
        </p:nvSpPr>
        <p:spPr>
          <a:xfrm>
            <a:off x="598320" y="42696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Calibri"/>
              </a:rPr>
              <a:t>Evaluación del Desempeño Profesion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8" descr=""/>
          <p:cNvPicPr/>
          <p:nvPr/>
        </p:nvPicPr>
        <p:blipFill>
          <a:blip r:embed="rId2"/>
          <a:stretch/>
        </p:blipFill>
        <p:spPr>
          <a:xfrm>
            <a:off x="7566120" y="1197000"/>
            <a:ext cx="1547640" cy="15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84" name="1 Título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2 Marcador de contenido"/>
          <p:cNvSpPr/>
          <p:nvPr/>
        </p:nvSpPr>
        <p:spPr>
          <a:xfrm>
            <a:off x="324000" y="1268280"/>
            <a:ext cx="8229600" cy="48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1 Título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Calibri"/>
              </a:rPr>
              <a:t>PROCEDIMIEN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2 Marcador de contenido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Calibri"/>
              </a:rPr>
              <a:t>Convocatoria a entrevista mediante escrito dirigido al trabajad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Calibri"/>
              </a:rPr>
              <a:t>Pauta de entrevista al trabajad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Calibri"/>
              </a:rPr>
              <a:t>Acciones para el mejoramiento del desempeño registradas en pauta de entrevista firmada por las tres par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Calibri"/>
              </a:rPr>
              <a:t>Es deber del Equipo Directivo, monitorear el cumplimiento de las acciones que se han dispuesto para solucionar las debilidades observadas en el desempeño del trabajad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Calibri"/>
              </a:rPr>
              <a:t>Fechas de informes de desempeño profesion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es-MX" sz="2400" spc="-1" strike="noStrike">
                <a:solidFill>
                  <a:srgbClr val="ffff00"/>
                </a:solidFill>
                <a:latin typeface="Calibri"/>
              </a:rPr>
              <a:t>a. Primer semestre </a:t>
            </a:r>
            <a:r>
              <a:rPr b="0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s-MX" sz="2400" spc="-1" strike="noStrike">
                <a:solidFill>
                  <a:srgbClr val="ffff00"/>
                </a:solidFill>
                <a:latin typeface="Calibri"/>
              </a:rPr>
              <a:t> 30 de junio de 201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es-MX" sz="2400" spc="-1" strike="noStrike">
                <a:solidFill>
                  <a:srgbClr val="ffff00"/>
                </a:solidFill>
                <a:latin typeface="Calibri"/>
              </a:rPr>
              <a:t>b. Segundo semestre </a:t>
            </a:r>
            <a:r>
              <a:rPr b="0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s-MX" sz="2400" spc="-1" strike="noStrike">
                <a:solidFill>
                  <a:srgbClr val="ffff00"/>
                </a:solidFill>
                <a:latin typeface="Calibri"/>
              </a:rPr>
              <a:t> 30  de noviembre de 201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-36360" y="-4932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91" name="1 Título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Calibri"/>
              </a:rPr>
              <a:t>PROCEDIMIEN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1 Elipse"/>
          <p:cNvSpPr/>
          <p:nvPr/>
        </p:nvSpPr>
        <p:spPr>
          <a:xfrm>
            <a:off x="106200" y="1498680"/>
            <a:ext cx="2017800" cy="1643040"/>
          </a:xfrm>
          <a:prstGeom prst="ellipse">
            <a:avLst/>
          </a:prstGeom>
          <a:solidFill>
            <a:srgbClr val="95b3d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alibri"/>
              </a:rPr>
              <a:t>DEFINICIÓN DE ROLES DEL TRABAJAD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2 Rectángulo redondeado"/>
          <p:cNvSpPr/>
          <p:nvPr/>
        </p:nvSpPr>
        <p:spPr>
          <a:xfrm>
            <a:off x="2771640" y="1501920"/>
            <a:ext cx="2160720" cy="1439640"/>
          </a:xfrm>
          <a:prstGeom prst="roundRect">
            <a:avLst>
              <a:gd name="adj" fmla="val 16667"/>
            </a:avLst>
          </a:prstGeom>
          <a:solidFill>
            <a:srgbClr val="95b3d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alibri"/>
              </a:rPr>
              <a:t>3 ENTREVISTA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3 Elipse"/>
          <p:cNvSpPr/>
          <p:nvPr/>
        </p:nvSpPr>
        <p:spPr>
          <a:xfrm>
            <a:off x="5724360" y="1484280"/>
            <a:ext cx="2519640" cy="1460520"/>
          </a:xfrm>
          <a:prstGeom prst="ellipse">
            <a:avLst/>
          </a:prstGeom>
          <a:solidFill>
            <a:srgbClr val="95b3d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alibri"/>
              </a:rPr>
              <a:t>EVALUACIÓN DE DESEMPEÑ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4 Rectángulo redondeado"/>
          <p:cNvSpPr/>
          <p:nvPr/>
        </p:nvSpPr>
        <p:spPr>
          <a:xfrm>
            <a:off x="6012000" y="3394080"/>
            <a:ext cx="2016000" cy="1141560"/>
          </a:xfrm>
          <a:prstGeom prst="roundRect">
            <a:avLst>
              <a:gd name="adj" fmla="val 16667"/>
            </a:avLst>
          </a:prstGeom>
          <a:solidFill>
            <a:srgbClr val="95b3d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alibri"/>
              </a:rPr>
              <a:t>ACUERD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alibri"/>
              </a:rPr>
              <a:t>FORTALEZ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alibri"/>
              </a:rPr>
              <a:t>DEBILIDA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5 Elipse"/>
          <p:cNvSpPr/>
          <p:nvPr/>
        </p:nvSpPr>
        <p:spPr>
          <a:xfrm>
            <a:off x="4724280" y="5213520"/>
            <a:ext cx="4419720" cy="1623960"/>
          </a:xfrm>
          <a:prstGeom prst="ellipse">
            <a:avLst/>
          </a:prstGeom>
          <a:solidFill>
            <a:srgbClr val="95b3d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alibri"/>
              </a:rPr>
              <a:t>COMPROMISO DE SUPERACIÓ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alibri"/>
              </a:rPr>
              <a:t>MONITOREO DEL EQUIPO DIRECTIV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7" name="7 Conector recto de flecha"/>
          <p:cNvCxnSpPr/>
          <p:nvPr/>
        </p:nvCxnSpPr>
        <p:spPr>
          <a:xfrm>
            <a:off x="2123640" y="2319120"/>
            <a:ext cx="648360" cy="108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98" name="13 Conector recto de flecha"/>
          <p:cNvCxnSpPr/>
          <p:nvPr/>
        </p:nvCxnSpPr>
        <p:spPr>
          <a:xfrm>
            <a:off x="4932360" y="2214720"/>
            <a:ext cx="792720" cy="864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99" name="15 Conector recto de flecha"/>
          <p:cNvCxnSpPr/>
          <p:nvPr/>
        </p:nvCxnSpPr>
        <p:spPr>
          <a:xfrm>
            <a:off x="6962400" y="2944800"/>
            <a:ext cx="1080" cy="45000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00" name="18 Conector recto de flecha"/>
          <p:cNvCxnSpPr/>
          <p:nvPr/>
        </p:nvCxnSpPr>
        <p:spPr>
          <a:xfrm>
            <a:off x="7000560" y="4535280"/>
            <a:ext cx="19800" cy="67860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101" name="25 Rectángulo redondeado"/>
          <p:cNvSpPr/>
          <p:nvPr/>
        </p:nvSpPr>
        <p:spPr>
          <a:xfrm>
            <a:off x="1114560" y="5454720"/>
            <a:ext cx="2016000" cy="1141200"/>
          </a:xfrm>
          <a:prstGeom prst="roundRect">
            <a:avLst>
              <a:gd name="adj" fmla="val 16667"/>
            </a:avLst>
          </a:prstGeom>
          <a:solidFill>
            <a:srgbClr val="95b3d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alibri"/>
              </a:rPr>
              <a:t>El Sostenedor evalúa continuid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2" name="28 Conector recto de flecha"/>
          <p:cNvCxnSpPr>
            <a:endCxn id="101" idx="3"/>
          </p:cNvCxnSpPr>
          <p:nvPr/>
        </p:nvCxnSpPr>
        <p:spPr>
          <a:xfrm flipH="1">
            <a:off x="3129840" y="6025680"/>
            <a:ext cx="1594440" cy="108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103" name="6 CuadroTexto"/>
          <p:cNvSpPr/>
          <p:nvPr/>
        </p:nvSpPr>
        <p:spPr>
          <a:xfrm>
            <a:off x="3276720" y="4875120"/>
            <a:ext cx="1439640" cy="916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Calibri"/>
              </a:rPr>
              <a:t>Dirección informa a CMV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16:54:51Z</dcterms:created>
  <dc:creator>Sebastip</dc:creator>
  <dc:description/>
  <dc:language>en-US</dc:language>
  <cp:lastModifiedBy>Sebastip</cp:lastModifiedBy>
  <cp:lastPrinted>2011-05-11T21:42:34Z</cp:lastPrinted>
  <dcterms:modified xsi:type="dcterms:W3CDTF">2011-05-11T21:51:35Z</dcterms:modified>
  <cp:revision>47</cp:revision>
  <dc:subject/>
  <dc:title>Aplicación del Programa LEE</dc:title>
</cp:coreProperties>
</file>